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D507-B0E6-4F60-9D95-804A8600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66AC-0DA0-4FCB-A1DF-42A79829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5D5F-EDAE-4966-B40D-0BFC2694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6662-AAA5-4B1A-9788-2C24EE56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D793-0A4A-405B-B25A-D1C6BE23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A8EB-67D5-40A8-9E46-4676E9BB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0FF9-C12E-4706-9937-947891B0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97D4-7059-4A1E-B465-7D08F37B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2D46-07DC-44F6-B3D6-61DB0939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0E1F-F8F0-4439-BBEB-2A40B626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0B7E-5A68-4227-87FC-BCA73AC7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DB11-A2C7-4D00-8E81-C08DAA69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151A-DE58-4CA2-B68D-EB24324D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3477-B500-434D-89EA-155956EE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041B-8864-407E-9BD6-137445B2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DC71-AC8A-47D5-BC09-E629000E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EA21-85C3-4B4C-A9B5-8546C5CA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8716-79A3-4525-824A-9F797528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E375-EA41-4724-A8CC-EA6D8D67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CAAA-35E4-4F50-8F13-A54D967B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8073-699A-439D-A702-E8E0CC21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F8D7-F78D-4FC2-98A5-DB018B72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607D-20F4-49E0-957D-35A1EF87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DC99-5D30-444E-BAC6-DC6C2007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B192-B644-471D-9A7A-6FB12BAED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Castellar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Castellar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Castellar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Castellar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Castellar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stellar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stellar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6DD1-A267-433A-BA57-EF70D2432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3ffff"/>
              </a:buClr>
              <a:buFont typeface="Castellar"/>
              <a:buChar char="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c8cb4"/>
              </a:buClr>
              <a:buFont typeface="Castellar"/>
              <a:buChar char="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3ffff"/>
              </a:buClr>
              <a:buFont typeface="Castellar"/>
              <a:buChar char="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astellar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astellar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99ff"/>
                </a:solidFill>
                <a:latin typeface="Castellar"/>
              </a:rPr>
              <a:t>Ma Mansion!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45720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6019560" cy="40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ff"/>
                </a:solidFill>
                <a:latin typeface="Times New Roman"/>
              </a:rPr>
              <a:t>El Jard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jardin es bonit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48320" y="2743200"/>
            <a:ext cx="3200400" cy="23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ff"/>
                </a:solidFill>
                <a:latin typeface="Times New Roman"/>
              </a:rPr>
              <a:t>El Balcó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Balcón es arrib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733920" y="2895480"/>
            <a:ext cx="4647960" cy="30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ff"/>
                </a:solidFill>
                <a:latin typeface="Times New Roman"/>
              </a:rPr>
              <a:t>La Coci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cina es muy sofistic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657600" y="28195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ff"/>
                </a:solidFill>
                <a:latin typeface="Times New Roman"/>
              </a:rPr>
              <a:t>El Ban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bano es muy gran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114800" y="3048120"/>
            <a:ext cx="3772080" cy="26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ff"/>
                </a:solidFill>
                <a:latin typeface="Times New Roman"/>
              </a:rPr>
              <a:t>El Comed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omedor es lujoso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y bonit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000240" cy="41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ff"/>
                </a:solidFill>
                <a:latin typeface="Times New Roman"/>
              </a:rPr>
              <a:t>El Cuart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ama es alto arrib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67080" y="2971800"/>
            <a:ext cx="3048120" cy="2874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ff"/>
                </a:solidFill>
                <a:latin typeface="Times New Roman"/>
              </a:rPr>
              <a:t>La Sal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ala es todos blanc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6095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ff"/>
                </a:solidFill>
                <a:latin typeface="Times New Roman"/>
              </a:rPr>
              <a:t>El Pati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atio es muy bell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876920" y="3505320"/>
            <a:ext cx="3886200" cy="27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ff"/>
                </a:solidFill>
                <a:latin typeface="Times New Roman"/>
              </a:rPr>
              <a:t>La Charc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 charca es transparen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038480" y="2743200"/>
            <a:ext cx="4572000" cy="286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ff"/>
                </a:solidFill>
                <a:latin typeface="Times New Roman"/>
              </a:rPr>
              <a:t>El Gara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garaje es muy gran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9880" y="2895480"/>
            <a:ext cx="4648320" cy="309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11:31Z</dcterms:created>
  <dc:creator>carusojul</dc:creator>
  <dc:description/>
  <dc:language>en-US</dc:language>
  <cp:lastModifiedBy>carusojul</cp:lastModifiedBy>
  <dcterms:modified xsi:type="dcterms:W3CDTF">2013-04-11T18:05:44Z</dcterms:modified>
  <cp:revision>5</cp:revision>
  <dc:subject/>
  <dc:title>La Mágico Carpa</dc:title>
</cp:coreProperties>
</file>